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6477-8D2C-4799-9BF9-A2EE78C23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6CBE-0F6E-4F38-BB07-3C79E5D5E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ttom picture are the Ural Mountains and the top pictures is Mount Eve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379E-0726-4500-91F2-F5D385C36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picture of Lake Baik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F829-5AE1-4E1C-AC7A-A6E4A31FA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E59F-AD8D-4727-A634-C2A9EE39F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1844-E86C-41C9-B469-0C4D0F675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90D9-5C20-4AC8-ACC0-23DBEBBF1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B3AD-B2E8-490C-9C00-F2CDCA7D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843-C792-47C0-BB98-D052456F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529-4F18-4902-83F2-FBC83D6F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4369-EF55-495F-AB7A-98FD18B6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4A7-A54F-429D-9826-59BBF6F8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F49C-B7F3-4C03-84A5-7DF662D9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1C7F-CDF2-4DF3-9E54-B33BA58E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C7DE-2CA3-48C7-B952-0BA7AD09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5A4-F91B-4AEE-82F9-2173471F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931-8997-4A91-A20F-3A9073DA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F94-B094-47D3-85CA-E6E2B7E9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658-7775-41B6-B0E5-1C90E7FD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C71A-CB57-40C6-A2E3-CE999B3BB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npbf.org/images/Russia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2/Ural_mountains_448118784_97386d9aac_b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moscowtopnews.com/image/article/7/0/4/1704.jpe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reehugger.com/lake-baikal-goldman-prize.jpg&amp;imgrefurl=http://www.treehugger.com/files/2008/11/lake-baikal-pollution-free.php&amp;usg=__2cFacaCCFadgJs2PcVDs-wTDDlc=&amp;h=315&amp;w=468&amp;sz=52&amp;hl=en&amp;start=9&amp;zoom=1&amp;um=1&amp;itbs=1&amp;tbnid=OcG-jCZnnzA_GM:&amp;tbnh=86&amp;tbnw=128&amp;prev=/images%3Fq%3Dlake%2Bbaikal%26um%3D1%26hl%3Den%26tbs%3Disch:1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action.walmartwatch.com/page/-/blog/thumbs%2520up.jpg&amp;imgrefurl=http://walmartwatch.com/blog/tags/tag/pr/&amp;usg=__G7jdQQE1Vb5TutD7-74kychr7rU=&amp;h=320&amp;w=320&amp;sz=36&amp;hl=en&amp;start=34&amp;zoom=1&amp;um=1&amp;itbs=1&amp;tbnid=Snp4BfHeRDaGlM:&amp;tbnh=118&amp;tbnw=118&amp;prev=/images%3Fq%3Dthumbs%2Bup%26start%3D20%26um%3D1%26hl%3Den%26sa%3DN%26rlz%3D1R2ADSA_enUS363%26ndsp%3D20%26tbs%3Disch: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google.com/imgres?imgurl=http://www.clipartguide.com/_small/0808-0710-2914-4647.jpg&amp;imgrefurl=http://www.clipartguide.com/_pages/0808-0710-2914-4647.html&amp;usg=__L_gsxl4TM7YKOww11ntEbouHoMw=&amp;h=300&amp;w=300&amp;sz=5&amp;hl=en&amp;start=33&amp;zoom=1&amp;um=1&amp;itbs=1&amp;tbnid=p-GN-w-MPqAaNM:&amp;tbnh=116&amp;tbnw=116&amp;prev=/images%3Fq%3Dcheck%2Bmark%26start%3D20%26um%3D1%26hl%3Den%26sa%3DN%26rlz%3D1R2ADSA_enUS363%26ndsp%3D20%26tbs%3Disch:1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bestwaytoinvest.com/UserFiles/Image/Russia-c.jpg&amp;imgrefurl=http://www.bestwaytoinvest.com/russia&amp;usg=__8TcAv4irTc9FYSTZYKTShQ55trI=&amp;h=705&amp;w=663&amp;sz=82&amp;hl=en&amp;start=2&amp;zoom=1&amp;itbs=1&amp;tbnid=vS0nfjQiHHezBM:&amp;tbnh=140&amp;tbnw=132&amp;prev=/images%3Fq%3Drussia%26hl%3Den%26tbs%3Disch:1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www.cpc.unc.edu/projects/rlms/images/russia_home_upper_banner.jpg&amp;imgrefurl=http://www.cpc.unc.edu/projects/rlms/&amp;usg=__VbwQTSRXNi7caYhTaUv9xfgWLRg=&amp;h=308&amp;w=509&amp;sz=51&amp;hl=en&amp;start=20&amp;zoom=1&amp;itbs=1&amp;tbnid=z8jXwAd24eb_mM:&amp;tbnh=79&amp;tbnw=131&amp;prev=/images%3Fq%3Drussia%26hl%3Den%26tbs%3Disch:1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com/imgres?imgurl=http://www.e-architect.co.uk/images/jpgs/moscow/russia_tower_fosters_oct07_4.jpg&amp;imgrefurl=http://www.e-architect.co.uk/moscow/russia_tower.htm&amp;usg=__k_f-SSwRd0_BMuCa8DvED1YnXY8=&amp;h=1000&amp;w=500&amp;sz=49&amp;hl=en&amp;start=12&amp;zoom=1&amp;itbs=1&amp;tbnid=C-J8fZYhz3QvyM:&amp;tbnh=149&amp;tbnw=75&amp;prev=/images%3Fq%3Drussia%26hl%3Den%26tbs%3Disch:1" TargetMode="External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milia Kapcia, Nina Luu,and Kevin Do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d about land 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lots of mountains in Russia and not a lot of land to plant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 Ural Mountains, it is harder to travel to eastern and west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cano, Mt. Elbrus, is part of ring of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land for farming but it is too cold to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 rot="357600">
            <a:off x="4343400" y="5029200"/>
            <a:ext cx="343836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 rot="20551800">
            <a:off x="685800" y="228240"/>
            <a:ext cx="16765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4640" y="4784760"/>
            <a:ext cx="4219560" cy="2085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 people adapted to the bad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y want to travel to eastern Russia they could take a plane over the Ural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one of the deepest freshwater lakes, so if something gets into there drinking water, they could drink out of that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t0.gstatic.com/images?q=tbn:Snp4BfHeRDaGlM: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442116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good things about the land in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two plains that are very good for pl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rivers that are navig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the navigable rivers tourists can get in and out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9480" y="1371600"/>
          <a:ext cx="8229600" cy="510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good navigable rivers in Russia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2 plains in Russia that are very good for farming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t because of how cold it is, the rivers are froz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also too cold for farming in the pla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63" name="Picture 7" descr="http://t1.gstatic.com/images?q=tbn:p-GN-w-MPqAaNM:">
            <a:hlinkClick r:id="rId2"/>
          </p:cNvPr>
          <p:cNvPicPr/>
          <p:nvPr/>
        </p:nvPicPr>
        <p:blipFill>
          <a:blip r:embed="rId3"/>
          <a:stretch/>
        </p:blipFill>
        <p:spPr>
          <a:xfrm rot="1014000">
            <a:off x="2203200" y="4565160"/>
            <a:ext cx="1790640" cy="1791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www.law.columbia.edu/ipimages/Information_technology/images/CheckMarkX.jpg"/>
          <p:cNvPicPr/>
          <p:nvPr/>
        </p:nvPicPr>
        <p:blipFill>
          <a:blip r:embed="rId4"/>
          <a:stretch/>
        </p:blipFill>
        <p:spPr>
          <a:xfrm rot="20660400">
            <a:off x="5562720" y="4640040"/>
            <a:ext cx="167616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www.bugbog.com/images/galleries/russia_pictures/russia_pictures_door.jpg"/>
          <p:cNvPicPr/>
          <p:nvPr/>
        </p:nvPicPr>
        <p:blipFill>
          <a:blip r:embed="rId2"/>
          <a:stretch/>
        </p:blipFill>
        <p:spPr>
          <a:xfrm rot="20713200">
            <a:off x="34920" y="363240"/>
            <a:ext cx="2981160" cy="1987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t3.gstatic.com/images?q=tbn:vS0nfjQiHHezBM:">
            <a:hlinkClick r:id="rId3"/>
          </p:cNvPr>
          <p:cNvPicPr/>
          <p:nvPr/>
        </p:nvPicPr>
        <p:blipFill>
          <a:blip r:embed="rId4"/>
          <a:stretch/>
        </p:blipFill>
        <p:spPr>
          <a:xfrm rot="906600">
            <a:off x="6148440" y="299880"/>
            <a:ext cx="2681280" cy="284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t3.gstatic.com/images?q=tbn:z8jXwAd24eb_mM:">
            <a:hlinkClick r:id="rId5"/>
          </p:cNvPr>
          <p:cNvPicPr/>
          <p:nvPr/>
        </p:nvPicPr>
        <p:blipFill>
          <a:blip r:embed="rId6"/>
          <a:stretch/>
        </p:blipFill>
        <p:spPr>
          <a:xfrm rot="1244400">
            <a:off x="-108000" y="3993840"/>
            <a:ext cx="3432240" cy="207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t0.gstatic.com/images?q=tbn:C-J8fZYhz3QvyM:">
            <a:hlinkClick r:id="rId7"/>
          </p:cNvPr>
          <p:cNvPicPr/>
          <p:nvPr/>
        </p:nvPicPr>
        <p:blipFill>
          <a:blip r:embed="rId8"/>
          <a:stretch/>
        </p:blipFill>
        <p:spPr>
          <a:xfrm rot="20616600">
            <a:off x="3189240" y="1741320"/>
            <a:ext cx="2278080" cy="510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t2.gstatic.com/images?q=tbn:gVg60s1Mqu7dKM:"/>
          <p:cNvPicPr/>
          <p:nvPr/>
        </p:nvPicPr>
        <p:blipFill>
          <a:blip r:embed="rId9"/>
          <a:stretch/>
        </p:blipFill>
        <p:spPr>
          <a:xfrm rot="1156200">
            <a:off x="5589720" y="3828600"/>
            <a:ext cx="31129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3:43:40Z</dcterms:created>
  <dc:creator>Emilka</dc:creator>
  <dc:description/>
  <dc:language>en-US</dc:language>
  <cp:lastModifiedBy> </cp:lastModifiedBy>
  <dcterms:modified xsi:type="dcterms:W3CDTF">2010-12-20T23:47:24Z</dcterms:modified>
  <cp:revision>9</cp:revision>
  <dc:subject/>
  <dc:title>LAND IN RUSSIA</dc:title>
</cp:coreProperties>
</file>